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6B-9432-425D-B043-55B03414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FD4-1964-4A87-96DD-39D8B38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74C-4B18-476B-BE93-B8BB5B1C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B72-5E4E-4AA5-8239-5BC43E29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F38-45C6-4908-9EE9-02E8EBA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53C-ED7A-4338-8F24-35C1D8F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5E6-7D0E-4705-800A-B6CC8F21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EB0-B8B9-479B-A7A2-2E8CE68A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5D6-BA23-4707-B533-737E43A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78B-FA5D-47F2-801D-4320D6F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1A7-D418-45DB-86CB-54AE9B3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136-1A87-4B4F-BA35-96DBA02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C12-56FB-498A-9588-1B67E29B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ed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010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What makes a person RICH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9922400">
            <a:off x="7391160" y="5028840"/>
            <a:ext cx="1752480" cy="1406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015800">
            <a:off x="2285640" y="4419720"/>
            <a:ext cx="2238480" cy="225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433400">
            <a:off x="0" y="4190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8300600">
            <a:off x="5314680" y="78084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PPINES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14600" y="36572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D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9798800">
            <a:off x="3886200" y="533520"/>
            <a:ext cx="2286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mi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366800">
            <a:off x="198108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52388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038480" y="5106960"/>
            <a:ext cx="2133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nley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 rot="19726800">
            <a:off x="304560" y="304560"/>
            <a:ext cx="123804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 rot="20156400">
            <a:off x="6400440" y="3429000"/>
            <a:ext cx="1728720" cy="188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00600" y="3000240"/>
            <a:ext cx="12952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B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 rot="20094600">
            <a:off x="0" y="3429000"/>
            <a:ext cx="1857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dibl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236232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5400000">
            <a:off x="6527160" y="1244520"/>
            <a:ext cx="31752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ompas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2:29:18Z</dcterms:created>
  <dc:creator>Tom S. Gryboski</dc:creator>
  <dc:description/>
  <dc:language>en-US</dc:language>
  <cp:lastModifiedBy>Tom S. Gryboski</cp:lastModifiedBy>
  <dcterms:modified xsi:type="dcterms:W3CDTF">2011-11-30T02:47:10Z</dcterms:modified>
  <cp:revision>2</cp:revision>
  <dc:subject/>
  <dc:title>Slide 1</dc:title>
</cp:coreProperties>
</file>